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DB9-8ED0-4802-8D99-69BCD15CA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E726-6792-4D77-9E3A-D9B3AC44B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A01D-B58C-444E-B5CB-C43650BAE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814C-BD57-42DE-92FA-FC2B31BD0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ED69-EFD1-424D-A4D7-9E30E601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721BA-C623-41E7-A549-F316115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51DFE-F35A-4DED-AF5B-7CADA03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EE15-88D5-45C2-BEF8-E1C3979E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4257-8BE0-47DA-B701-C27CEF42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882E-9565-4A64-9B6C-0A4CF651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9247B-BFBE-462D-835F-552671D9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801-0885-469E-96A3-DF32AE5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2A34-647C-47AA-8233-CB15AB5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EE17-66CE-496E-ABFE-48147D80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5797-E6FB-484D-8652-4C2FC8EF7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F8A-63F2-43B3-A8F3-2DEB2F77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599-700B-4039-AC61-1580D902B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B17B2-9709-4227-ADCA-65194497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04345-C3FB-46BB-BE4B-3A863C170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F13C8-DB65-40A0-94F2-72D57B31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BE50E-65DC-4C38-BF3C-FB252DA9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94A64-B4E3-44D5-91A8-5564F9A44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FD0-B454-4CA6-89B8-2F56DE6C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7F96F-D266-44E7-9DBE-C949FE978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E220-0BAC-4892-94E6-2F733BA2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20FA6-30AF-429A-82AB-A2A8707B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CE25-EA4B-4E39-9361-039DF725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D8581-B2A5-46DB-84D5-059749313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75613-48BC-4DF0-98AF-EF39ECDA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A59D-C40B-4D85-8C78-7F03E808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FFEFB-1E73-4D68-8526-CEBB66F37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1C012-2285-42C8-9B75-E495E61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7791-4A77-49D1-9CF0-7F4A1D06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FEC-7D3C-4541-8717-8D5DE8135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23297-C000-43F9-B13D-DF2008BC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646F8-56EC-4CB3-A185-57454A07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42061-F5DE-40D8-B14C-A05C4A1D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CA310-CADD-4FD8-B35C-9EF23BBC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4FD4D-1B35-4C2D-B3D0-C650327C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F1299-B06C-460C-BEA5-6AF37AB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52C60-76A5-4A05-81F9-E00B5AB0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C3CF-FCC9-43BB-A4DA-F1FDC04AA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D3D4C-FDB3-4744-AC1A-4124CB83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987E-6494-4895-B861-5A48681C8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9D7-5440-44AA-B749-470ECDD2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EDF84-9CFB-48EA-9B7C-03D8789B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F9C68-B29D-4CCB-AB76-D6AEAE1D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06543-A930-435D-BFD1-441823F5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C497B-D800-4F18-955D-52304DFE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1BA24-BB1F-4646-9E90-0E4BA41D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57048-A44E-499B-8962-A8E90968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8EBCA-588E-4FC0-B1D7-A2AF1802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BB673-2EE5-4CBE-8DD5-92F163D0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34747-D867-4D08-AC52-14306DD6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18D49-36A2-4FFC-8D6E-E4D29728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653-A41D-4EAB-8879-6690340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DB6E5-02EE-44C3-A2F8-50D9340B4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3686E-F98A-4BF0-9F8B-185B95B02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86C76-E319-4B4B-88E9-2CF0F1B7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0557E-2241-40A1-8898-0017EA66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D623B-82F5-40A3-BE5B-73433FFE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223B-EDEF-481A-91AD-C9778131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F3945-9A15-4F26-8F80-8E105327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2B92A-4A4F-4402-937D-537FAD60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F24B4-25EA-4288-B7A9-2F04BE62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059A-786E-4244-B20B-37A20283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0FE8-E0F3-4886-8889-9D8B8B42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5D130-107A-489A-A6B1-35BFA2D8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917EE-72A1-49BA-BC0F-309A47DDC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74A68-34A1-4E6B-AA03-76B56BBE9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592F6-C708-4C0F-AB1D-BC33F5AA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650FB-1F99-4931-B468-AD7B1433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D9487-D9E1-4521-9DEB-C1C8B3EE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30674-32C4-4A95-831B-06035DF76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A794D-FD0A-4A32-87D4-6E2FBBA1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BD2F2-B687-4D29-BCC7-74B65899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6665B-BFC0-472D-9557-19DB1C14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806-A96C-4379-AE04-01D6EA3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9280-3630-4FBB-A70C-54D075C9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5E5B4-B316-439F-8B29-5D249AE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29938-CBA7-4BBE-8930-E4662C98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B02ADF-0744-424D-9A74-7DF0021D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4EC86-EE24-45E8-9AB0-4076843B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2C0B-4BD9-4EC0-8D0D-5F0C098F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97BC5-3FA7-4937-8A2D-4EE88A7F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7FE83-5DCD-436E-A1D8-308C68A3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69C25-C499-4C8E-A4B2-414A127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40BF1-056C-4390-B6F4-6F175A7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5D88-64A5-4DC1-A25F-D84F82FF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E7B07-F9DB-4C01-BAE2-6BC30493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AE646-9721-4885-B6D4-DFE5B91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C3B7D-8B6D-4336-A134-C6528F88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5D1E52-5D91-4F1C-957F-6FBC9003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7E87E-3388-410B-AF92-94740C12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DF3BC-F1B2-4BE8-96BC-35754F28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328E6-7B70-423C-9E65-D17BCE01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DFE-1E3E-4F9F-BF1D-30EE76FBE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E29E-EB39-4EFC-B5B1-760A87549D8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1B2F-0ACB-4761-B19D-712C20160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FBFB2-19DD-4440-91C6-EA41A8735F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4412-38C6-4567-8874-FDC24E1E8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4503-3EDB-497D-BCD8-90DB0C8F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DA8F-265A-407C-88FF-07532297A89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9403-7D5C-4B15-AA17-16F603304D0E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46320"/>
            <a:ext cx="827892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7" name="PresenterGroup2"/>
          <p:cNvGrpSpPr/>
          <p:nvPr/>
        </p:nvGrpSpPr>
        <p:grpSpPr>
          <a:xfrm>
            <a:off x="1587600" y="1612800"/>
            <a:ext cx="5930640" cy="4152960"/>
            <a:chOff x="1587600" y="1612800"/>
            <a:chExt cx="5930640" cy="4152960"/>
          </a:xfrm>
        </p:grpSpPr>
        <p:pic>
          <p:nvPicPr>
            <p:cNvPr id="348" name="PresenterPic2" descr="DefaultScreen"/>
            <p:cNvPicPr/>
            <p:nvPr/>
          </p:nvPicPr>
          <p:blipFill>
            <a:blip r:embed="rId1"/>
            <a:stretch/>
          </p:blipFill>
          <p:spPr>
            <a:xfrm>
              <a:off x="1587600" y="1612800"/>
              <a:ext cx="5930640" cy="415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graphicFrame>
        <p:nvGraphicFramePr>
          <p:cNvPr id="350" name="PresenterInteractivity2"/>
          <p:cNvGraphicFramePr/>
          <p:nvPr/>
        </p:nvGraphicFramePr>
        <p:xfrm>
          <a:off x="304920" y="380880"/>
          <a:ext cx="8534160" cy="597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PresenterInteractivity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80880"/>
                    <a:ext cx="8534160" cy="597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3:42:15Z</dcterms:created>
  <dc:creator/>
  <dc:description/>
  <dc:language>en-US</dc:language>
  <cp:lastModifiedBy>tohlz</cp:lastModifiedBy>
  <dcterms:modified xsi:type="dcterms:W3CDTF">2009-07-18T21:19:35Z</dcterms:modified>
  <cp:revision>4</cp:revision>
  <dc:subject/>
  <dc:title>Slide 1</dc:title>
</cp:coreProperties>
</file>