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F47-438A-4F6F-9621-1B8A8002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728-7840-466E-8D03-F7AA2705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611-A9C2-469B-8760-C35FD017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36A-6FCD-4D67-8B31-02D7C2BF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AE8-3C26-43F7-B03F-8CC6F195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A62C-8606-485D-9F99-12A37B1D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76B8-1DA0-411D-92DE-70340479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C05-E435-40E7-B75C-0C1AECD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31D0-A521-41C4-BFF2-FC56B60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3B46-13D4-451B-B7FE-BDEE94F0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B978-A66E-42BA-B36F-43E9328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78B-0ABE-4AC3-AFE7-64ACA6C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8D7-83D9-4CB2-9F00-2EBB723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BDD-6041-4279-A03C-B002B8A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6B4-96DE-4319-A410-A91C7635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482-3202-4F45-BF97-53FFFA1C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0AF0-5786-4FBF-8C35-3D3B976F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4EF8-CFCC-40F9-B79A-52B16D7D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1D89-5CCE-464C-B001-1F23233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1A41-C9BE-40F8-8813-BA66432A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8E2A-7508-4D3D-B118-A7108F5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0271-CAE2-49AF-A453-3F475D18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3A1-1409-423C-A41B-65175C5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F0FA-A2EA-4E0E-B5CC-437657F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CC30-C267-49FE-B732-8E37404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6B44-C258-448A-A310-8772D113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B715-8899-47CC-A5A5-5CB3A5C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0222-D5BF-4517-BE8A-CA3D946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44BF4-7D8D-43C1-B155-ACE41EED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5175-49D8-495C-B8ED-1C8033B8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FD68-1B53-494F-B241-4164B9E8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C767-7B38-4D9A-B06E-FCEEEFA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BF14-2577-41E4-A7E3-91E264A8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470-D3EE-4B43-AD9D-2FDFC4C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34FD-AA29-4EEC-8BD8-B2AE05EC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7822-6DC8-47CA-BA4E-EFCA890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3A4C-0F5C-412B-9416-EDA1E7D2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EC29-090C-4B99-B665-1C22896D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FBEF-D37B-47D6-9A70-8486305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BF01-BA11-44E4-B763-DB31E92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CE04-FCB5-490D-BE55-5FACF27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92FC-5E72-4AC9-A0A9-F3CF3AF2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B95DE-06CC-4C63-B800-C9671FA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9A1A-A801-4497-BE3F-25B67FF2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CDC-7B1C-4D7F-B83D-D85D02D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B179-4A83-4B1F-AE3F-1933C9C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47AB-3F27-4F42-BA60-ADD61C89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C8F7-31F0-432F-B4A7-E4357CC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052A-6C52-43BD-9816-89F34B1B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E9095-3ECB-44CD-8EDF-C0C6B076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7257-B5A3-4A99-AF83-8B19C78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6D3F-A40A-4073-AC3C-471EC4E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F2C8-2835-4B35-B9F9-8C6F715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9ABFC-64F2-4B6D-BD7D-27D507FC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46C6E-036E-45C6-A3E6-4428FEE9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F08-7B04-481D-A4AE-C57B03D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20AF-165E-426E-90D0-88FB4E28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F398-1AEE-48F0-8136-E973B237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AB1B-33E3-4AA7-8A80-599A360C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26ED-4C00-4517-9008-3402BE2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A0A3-38D5-41EB-BAA3-ADB6AC4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70D0-E198-414F-B158-79984DB2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9487-A4AD-4779-8613-8CE5110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4601E-8611-426A-B0CF-8702D50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3C55-1570-4602-8B92-04C1BCD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7969-BD41-41F2-B9D0-6BEF8C5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47F-575A-4EBC-B8F0-7DDE5E72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0161-6505-4D02-BB52-4D6BCB1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AA4B-C590-4425-BFB8-17B1A69C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D936-2D45-4F9C-9A68-E6FC9831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7E65-2BF8-4368-AAA3-E7C9A55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29D5-907D-479B-AC9F-32868DB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8B09-ED8C-439A-9C9C-4434046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C90F-739C-48AE-803B-DD96DE7E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A132-775E-4D8A-B369-95A4FA4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2A4B-C81C-4104-9281-DDB351E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6C12D-3408-45CD-9E49-F07391A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63B-2B8F-48A2-9DBF-CE10CD7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93BD-D1BF-4EA7-9AC9-2F7AF30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B850F-2B78-4EAE-B6E7-BDBB91F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62D5D-FDC6-44E1-8302-6FA50106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7E73-4670-4EF9-9D92-42E01E70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F0FB-72A7-4C62-9C64-EC4A1BF3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8B802-3272-4003-B2AE-2952E31B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2EA0-A354-41EF-AC53-261871CD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B1731-46A4-4540-862D-733688D5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47227-9BC9-498E-877C-87143C11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590B-3031-47BD-9A74-D610E36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202-E5CD-447E-BEF1-8A08945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F365-4F0A-44D5-BB90-CF1CC692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F947-A044-4651-8CD0-5FA100C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90BCE-3CDD-4A4C-AA79-9DDD1AD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61C9D-9A18-4009-9E9B-291E0AD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4BD3-897D-4C22-807E-883C8F3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344A-EC55-43A6-923C-11B31892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06B37-892F-4E19-ACA5-9933B494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741-880C-4E24-AC0C-AA0381EC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F3F6-EB17-487A-B5CB-8B5FAE820D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241-55B3-4B90-9A8A-FD750790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CEC8-AA01-44D0-BDF9-C9F2C373CF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388-F974-494B-80AB-EA882DE7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7145-F0E6-4E30-8FEF-0BA76FF1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E2B9-4407-47D7-9873-8BB04B5B194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584A-ADA1-4336-9B33-E2950A6C29B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46320"/>
            <a:ext cx="8278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PresenterGroup2"/>
          <p:cNvGrpSpPr/>
          <p:nvPr/>
        </p:nvGrpSpPr>
        <p:grpSpPr>
          <a:xfrm>
            <a:off x="1587600" y="1612800"/>
            <a:ext cx="5930640" cy="4152960"/>
            <a:chOff x="1587600" y="1612800"/>
            <a:chExt cx="5930640" cy="4152960"/>
          </a:xfrm>
        </p:grpSpPr>
        <p:pic>
          <p:nvPicPr>
            <p:cNvPr id="348" name="PresenterPic2" descr="DefaultScreen"/>
            <p:cNvPicPr/>
            <p:nvPr/>
          </p:nvPicPr>
          <p:blipFill>
            <a:blip r:embed="rId1"/>
            <a:stretch/>
          </p:blipFill>
          <p:spPr>
            <a:xfrm>
              <a:off x="1587600" y="1612800"/>
              <a:ext cx="5930640" cy="415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50" name="PresenterInteractivity2"/>
          <p:cNvGraphicFramePr/>
          <p:nvPr/>
        </p:nvGraphicFramePr>
        <p:xfrm>
          <a:off x="304920" y="380880"/>
          <a:ext cx="8534160" cy="597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PresenterInteractivity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53416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3:42:15Z</dcterms:created>
  <dc:creator/>
  <dc:description/>
  <dc:language>en-US</dc:language>
  <cp:lastModifiedBy>tohlz</cp:lastModifiedBy>
  <dcterms:modified xsi:type="dcterms:W3CDTF">2009-07-18T21:19:35Z</dcterms:modified>
  <cp:revision>4</cp:revision>
  <dc:subject/>
  <dc:title>Slide 1</dc:title>
</cp:coreProperties>
</file>