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  <p:custShowLst>
    <p:custShow name="Custom Show 1" id="0">
      <p:sldLst>
        <p:sld r:id="rId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52D9-801B-4CCC-97C0-1DA3AA661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1826-B651-4911-8198-0AB24AFEE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7F47-43B6-4B13-861C-79D661055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6128-ACA8-478F-B746-2450ED50E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FD3D-2BE8-4772-8E82-E2DEA9498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8DCC-EB95-4C1E-B496-F7B992B7E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EE0A-2CAB-44B9-A3E6-3DA0E6FB0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1026-AD13-40A6-A2C0-4E77D6FE6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63C9-A246-4928-AF2A-8647C196E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2F60-B813-428D-BACB-C9F5FD2B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A411-973F-42F6-AF04-9BAE95FD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187B-5DB6-4F1A-9A73-3C84134C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149AE-FC4D-4C20-84CD-1A372C952D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olling Ticker For PowerPoint 20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26708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5974920" y="6400800"/>
            <a:ext cx="59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a Scrolling Ticker for PowerPoint 2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1T20:24:53Z</dcterms:created>
  <dc:creator>tohlz</dc:creator>
  <dc:description/>
  <dc:language>en-US</dc:language>
  <cp:lastModifiedBy>tohlz</cp:lastModifiedBy>
  <dcterms:modified xsi:type="dcterms:W3CDTF">2007-06-21T20:24:58Z</dcterms:modified>
  <cp:revision>1</cp:revision>
  <dc:subject/>
  <dc:title>Scrolling Ticker For PowerPoint 2000</dc:title>
</cp:coreProperties>
</file>