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  <p:custShowLst>
    <p:custShow name="Custom Show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9A8C-8906-4CC0-99BF-4AB6BAA00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AA5F-7EC9-49BD-882C-BE804177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4688-1721-4E9C-99BC-5234FBBAB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5595-AE56-4C5C-B62D-BF5EF2674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A88E-B77E-4205-812B-4F0EEBCB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58F-CA3A-4C98-9C73-FB6EB183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3CDA-CDFC-4648-855F-1C36FB6A4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905B-AE1E-4DE3-9BD9-ED0978E1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ADDD-5331-49B3-8E47-CF398741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2C2-FEC6-465C-BF84-DE13E21E6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D34-32AF-4320-A475-E4FB09D7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B31-B2B5-43F1-916A-597FEADA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D738-4782-4015-836E-91986EBFB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rolling Ticker For PowerPoint 20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2670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5974920" y="640080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a Scrolling Ticker for PowerPoint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20:24:53Z</dcterms:created>
  <dc:creator>tohlz</dc:creator>
  <dc:description/>
  <dc:language>en-US</dc:language>
  <cp:lastModifiedBy>tohlz</cp:lastModifiedBy>
  <dcterms:modified xsi:type="dcterms:W3CDTF">2007-06-21T20:24:58Z</dcterms:modified>
  <cp:revision>1</cp:revision>
  <dc:subject/>
  <dc:title>Scrolling Ticker For PowerPoint 2000</dc:title>
</cp:coreProperties>
</file>